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59A-02E5-4F05-A7B9-C161CB78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59B-CB5E-4435-B255-BD513E95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473-3EDE-45EE-AC91-55AC91A9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90E-7690-4B89-B7A1-C509EC9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E64-50AC-41F0-9EC9-F5E1838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2D5-5755-4D05-B046-2C0D570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57E-2321-4500-8F88-F28B8EC8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BBD-0885-4070-80F6-8D8A161B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921-93F8-49CF-A1E3-89A2D61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D44-E668-49C6-881B-CCFACF9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3FA-8006-44F0-93BF-E482789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60A-9637-4977-88E0-DF65BF3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E5DD-EFC0-4994-8766-8314932A4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"/>
          <p:cNvSpPr/>
          <p:nvPr/>
        </p:nvSpPr>
        <p:spPr>
          <a:xfrm>
            <a:off x="2895480" y="6308640"/>
            <a:ext cx="3124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1/06 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with Market Participant (MP) funding of market projects identified by PRS on 03/23/06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provides a source of funding outside the ERCOT administrative fee, but administrative complexities and equity issues could outweigh potential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a new level of complexity to contract negot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that contributes financially to project could want some level of control ove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unds management and confidentialit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 of addressing resource impacts between fee based and MP funded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allocation, tracking an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parties to force option of MP funding if a project does not directly benefit a particular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only projects supported by investors will be f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on how to address project overruns or investor abandoned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quent Protocol revisions could impact the value of a MP funded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equity issues whereby large stakeholders have an advantage over smaller ent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TPTF 010906</cp:lastModifiedBy>
  <dcterms:modified xsi:type="dcterms:W3CDTF">2006-05-09T15:09:25Z</dcterms:modified>
  <cp:revision>20</cp:revision>
  <dc:subject/>
  <dc:title>Role of Account Management at ERCOT</dc:title>
</cp:coreProperties>
</file>